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0ABE5-5BA5-4772-B49C-6DE1851CFA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60027-1B86-48E5-ABC8-7AB06188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78C1B-CA91-4101-93D8-5C5E1E4D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56CB4-6059-4C7B-83D9-20AC316EDD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CE19-4728-4F15-A480-A8BB8FE2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10C0D-5DB8-4B91-AA14-40E2BE53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6AD63-572C-4167-BCB1-4F7F3CFD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B05D8-6739-4914-BFF7-DEFC38F1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13255-70F9-48AC-9906-3717465D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06847-EB14-418F-9181-20F1330D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2E250-B710-4645-951E-EAED3E20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2663A-CE4F-4657-B93A-C163D041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8F53-4338-4ECF-820E-55C21BA814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20500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第四章 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第六节    中国传统康复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661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毕桂芝</a:t>
            </a:r>
            <a:r>
              <a:rPr b="0" lang="zh-CN" sz="40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664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的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火罐法 ：闪火法 、投火法 、贴壁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罐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抽气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43904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起罐的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适应证与禁忌证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37576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作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擦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摩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223040" cy="49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推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拿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揉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点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296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搓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拍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捶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五、传统体育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729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传统体育康复法种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太极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八段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易筋经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五、传统体育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29612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太极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八段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易筋经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9212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六、中药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4000" y="1341360"/>
            <a:ext cx="813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在中医理论的指导下，辨证应用中药，以治疗疾病或促进康复的一种方法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包括植物药、动物药、矿物药及部分化学、生物制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作用：舒经活络、强筋健骨、行气活血、化瘀止痛、益气养血、扶正祛邪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七、饮食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符合辨证施治的原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所用之食物，必须与所用之药相辅佐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饮食宜清淡，反对膏粱厚味、过食肥甘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55640" y="1341360"/>
            <a:ext cx="76564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针灸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疗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传统体育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中药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饮食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36740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中医理论的指导下对患者进行康复治疗的方法 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8560" y="1371240"/>
            <a:ext cx="597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经活络，促进康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行气活血，散寒止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扶正祛邪，调整阴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920" y="1483920"/>
            <a:ext cx="56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处方原则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选穴的原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近部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远部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随症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穴方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371600"/>
            <a:ext cx="784872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针灸疗法应用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刺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位 ：仰卧位、侧卧位、坐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进针方法：指切进针法 、夹持进针法 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提捏进针法 、舒张进针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针灸疗法应用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灸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艾条灸 ：温和灸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雀啄灸、回旋灸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条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艾炷灸：直接灸 、隔姜灸、隔蒜灸 、隔饼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8560" y="1371240"/>
            <a:ext cx="597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舒适的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针刺部位及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意外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异常情况的处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664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的部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疼痛部位或相应穴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55:34Z</dcterms:modified>
  <cp:revision>92</cp:revision>
  <dc:subject/>
  <dc:title>内科护理学</dc:title>
</cp:coreProperties>
</file>